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A219E5-FDDD-44BB-AB51-EE3DB889FF52}"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1CE3D-194A-4841-8ECE-672C428E5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F85B0-AC90-4587-AF52-B0CBD8972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1683F-2362-4851-A133-C2B553436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8937C-DDC8-406D-8D03-6E2B10BE6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516E7-7251-488B-83E6-BB5FAECEE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0E91D-F790-41CA-AF94-F5EA5653C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DF9BD-3174-4AE2-B75A-54083574D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AC290-FB42-43B0-A35C-3C6A84D39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E7715-B541-41D0-9FCD-320D27415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58357-9CD7-4826-91B7-168F6A445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4D4D4-53BB-4387-9815-A97B1DCA1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D7E77-2CFC-45FA-836F-02093FB88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E03F1-CCAD-4C9C-8B0B-86634C6B8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307FA-C5B0-4723-9722-38E61B6AE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3D806-58B0-4DAD-981B-5982E4574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5D42F-DCE9-4576-BC3B-2E185A9F4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2C4E7-E79C-44D7-974F-B75B9C3DE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02D3C-FF65-41BF-8ED8-1E3FD561C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EC71F-90E3-4719-BEE5-BD49D640D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6E252-6BEC-42C8-8400-6776F552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EE52E-3202-4E75-93A5-C23C3BA14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9133D-A7DF-4C9E-B29A-18DC005EB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DB8E8-E78A-4FAD-8480-8743A4B61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DBF41-DEE2-4A4B-854B-FDCD8E69F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F46B-2389-4F92-A51E-E7E414905F33}"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7DDE-7259-4EDA-B911-C577FFD6395B}"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8230-8EF8-4D8A-93C0-5527963791B8}"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5763-292D-4C37-BA48-3B009CBABEE2}"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648C71C-FDAA-46D5-A3A3-DF49A1B9BA28}" type="slidenum">
              <a:t>10</a:t>
            </a:fld>
          </a:p>
        </p:txBody>
      </p:sp>
      <p:sp>
        <p:nvSpPr>
          <p:cNvPr id="6" name="PlaceHolder 5"/>
          <p:cNvSpPr>
            <a:spLocks noGrp="1"/>
          </p:cNvSpPr>
          <p:nvPr>
            <p:ph type="dt" idx="1"/>
          </p:nvPr>
        </p:nvSpPr>
        <p:spPr/>
        <p:txBody>
          <a:bodyPr/>
          <a:p>
            <a:fld id="{00D070B6-CEE8-40DF-B77B-92401A14B18C}" type="datetime1">
              <a:rPr lang="en-US"/>
              <a:t>07/31/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CC086D9-3362-4C02-B516-5BBCB69FDE5D}" type="slidenum">
              <a:t>11</a:t>
            </a:fld>
          </a:p>
        </p:txBody>
      </p:sp>
      <p:sp>
        <p:nvSpPr>
          <p:cNvPr id="6" name="PlaceHolder 5"/>
          <p:cNvSpPr>
            <a:spLocks noGrp="1"/>
          </p:cNvSpPr>
          <p:nvPr>
            <p:ph type="dt" idx="1"/>
          </p:nvPr>
        </p:nvSpPr>
        <p:spPr/>
        <p:txBody>
          <a:bodyPr/>
          <a:p>
            <a:fld id="{7AC261E7-89EE-427F-B574-E888E84EAC6E}" type="datetime1">
              <a:rPr lang="en-US"/>
              <a:t>07/31/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C020B4C-DFC8-4ECB-A7A6-78DA8BAD616F}" type="slidenum">
              <a:t>12</a:t>
            </a:fld>
          </a:p>
        </p:txBody>
      </p:sp>
      <p:sp>
        <p:nvSpPr>
          <p:cNvPr id="5" name="PlaceHolder 4"/>
          <p:cNvSpPr>
            <a:spLocks noGrp="1"/>
          </p:cNvSpPr>
          <p:nvPr>
            <p:ph type="dt" idx="1"/>
          </p:nvPr>
        </p:nvSpPr>
        <p:spPr/>
        <p:txBody>
          <a:bodyPr/>
          <a:p>
            <a:fld id="{3980B825-2091-46F8-BF13-CA9B567BBFA3}" type="datetime1">
              <a:rPr lang="en-US"/>
              <a:t>07/31/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BEFD71F-EBD2-495C-B468-12D244C800C7}" type="slidenum">
              <a:t>13</a:t>
            </a:fld>
          </a:p>
        </p:txBody>
      </p:sp>
      <p:sp>
        <p:nvSpPr>
          <p:cNvPr id="5" name="PlaceHolder 4"/>
          <p:cNvSpPr>
            <a:spLocks noGrp="1"/>
          </p:cNvSpPr>
          <p:nvPr>
            <p:ph type="dt" idx="1"/>
          </p:nvPr>
        </p:nvSpPr>
        <p:spPr/>
        <p:txBody>
          <a:bodyPr/>
          <a:p>
            <a:fld id="{7B01D7E7-1298-42DA-AC75-6B268F4458F9}" type="datetime1">
              <a:rPr lang="en-US"/>
              <a:t>07/31/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767ACE9-B2BE-4917-822D-E8776C054A33}" type="slidenum">
              <a:t>14</a:t>
            </a:fld>
          </a:p>
        </p:txBody>
      </p:sp>
      <p:sp>
        <p:nvSpPr>
          <p:cNvPr id="5" name="PlaceHolder 4"/>
          <p:cNvSpPr>
            <a:spLocks noGrp="1"/>
          </p:cNvSpPr>
          <p:nvPr>
            <p:ph type="dt" idx="1"/>
          </p:nvPr>
        </p:nvSpPr>
        <p:spPr/>
        <p:txBody>
          <a:bodyPr/>
          <a:p>
            <a:fld id="{09ADAC79-3ACC-4F54-9372-A892F7AF726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028454F-BFF5-44A2-9FE7-856AD791E9B4}" type="slidenum">
              <a:t>15</a:t>
            </a:fld>
          </a:p>
        </p:txBody>
      </p:sp>
      <p:sp>
        <p:nvSpPr>
          <p:cNvPr id="6" name="PlaceHolder 5"/>
          <p:cNvSpPr>
            <a:spLocks noGrp="1"/>
          </p:cNvSpPr>
          <p:nvPr>
            <p:ph type="dt" idx="1"/>
          </p:nvPr>
        </p:nvSpPr>
        <p:spPr/>
        <p:txBody>
          <a:bodyPr/>
          <a:p>
            <a:fld id="{D8853A72-DAAA-40E9-A8A1-7146A36F06C7}"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16985D5-E27F-4304-9F44-F4B86C658292}" type="slidenum">
              <a:t>16</a:t>
            </a:fld>
          </a:p>
        </p:txBody>
      </p:sp>
      <p:sp>
        <p:nvSpPr>
          <p:cNvPr id="5" name="PlaceHolder 4"/>
          <p:cNvSpPr>
            <a:spLocks noGrp="1"/>
          </p:cNvSpPr>
          <p:nvPr>
            <p:ph type="dt" idx="1"/>
          </p:nvPr>
        </p:nvSpPr>
        <p:spPr/>
        <p:txBody>
          <a:bodyPr/>
          <a:p>
            <a:fld id="{761F9EFB-56B7-447F-84D5-337924933769}" type="datetime1">
              <a:rPr lang="en-US"/>
              <a:t>07/31/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34AE90B-1426-49CE-AB14-5B13200DAF36}" type="slidenum">
              <a:t>17</a:t>
            </a:fld>
          </a:p>
        </p:txBody>
      </p:sp>
      <p:sp>
        <p:nvSpPr>
          <p:cNvPr id="5" name="PlaceHolder 4"/>
          <p:cNvSpPr>
            <a:spLocks noGrp="1"/>
          </p:cNvSpPr>
          <p:nvPr>
            <p:ph type="dt" idx="1"/>
          </p:nvPr>
        </p:nvSpPr>
        <p:spPr/>
        <p:txBody>
          <a:bodyPr/>
          <a:p>
            <a:fld id="{A337C7AA-3EAE-4D2E-9B2B-856AB27FC402}" type="datetime1">
              <a:rPr lang="en-US"/>
              <a:t>07/31/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4E4126F-3A99-4671-A359-CECC34CDDD52}" type="slidenum">
              <a:t>18</a:t>
            </a:fld>
          </a:p>
        </p:txBody>
      </p:sp>
      <p:sp>
        <p:nvSpPr>
          <p:cNvPr id="5" name="PlaceHolder 4"/>
          <p:cNvSpPr>
            <a:spLocks noGrp="1"/>
          </p:cNvSpPr>
          <p:nvPr>
            <p:ph type="dt" idx="1"/>
          </p:nvPr>
        </p:nvSpPr>
        <p:spPr/>
        <p:txBody>
          <a:bodyPr/>
          <a:p>
            <a:fld id="{3C209CC2-9B36-4E1C-8D36-46A09C9E9C26}"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96F745A-AD1F-41E0-B845-804690918F3D}" type="slidenum">
              <a:t>19</a:t>
            </a:fld>
          </a:p>
        </p:txBody>
      </p:sp>
      <p:sp>
        <p:nvSpPr>
          <p:cNvPr id="6" name="PlaceHolder 5"/>
          <p:cNvSpPr>
            <a:spLocks noGrp="1"/>
          </p:cNvSpPr>
          <p:nvPr>
            <p:ph type="dt" idx="1"/>
          </p:nvPr>
        </p:nvSpPr>
        <p:spPr/>
        <p:txBody>
          <a:bodyPr/>
          <a:p>
            <a:fld id="{6AE073F0-28B4-4046-8CEF-21ADA56BFCAA}"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CD058C2-46D0-4CC5-879C-EEC833787C7C}" type="slidenum">
              <a:t>2</a:t>
            </a:fld>
          </a:p>
        </p:txBody>
      </p:sp>
      <p:sp>
        <p:nvSpPr>
          <p:cNvPr id="6" name="PlaceHolder 5"/>
          <p:cNvSpPr>
            <a:spLocks noGrp="1"/>
          </p:cNvSpPr>
          <p:nvPr>
            <p:ph type="dt" idx="1"/>
          </p:nvPr>
        </p:nvSpPr>
        <p:spPr/>
        <p:txBody>
          <a:bodyPr/>
          <a:p>
            <a:fld id="{ECDB6832-F3FF-44AC-BC68-68EAA92B8750}" type="datetime1">
              <a:rPr lang="en-US"/>
              <a:t>07/31/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A4C1AB0-0C98-453F-A72F-FE3E68E97820}" type="slidenum">
              <a:t>3</a:t>
            </a:fld>
          </a:p>
        </p:txBody>
      </p:sp>
      <p:sp>
        <p:nvSpPr>
          <p:cNvPr id="5" name="PlaceHolder 4"/>
          <p:cNvSpPr>
            <a:spLocks noGrp="1"/>
          </p:cNvSpPr>
          <p:nvPr>
            <p:ph type="dt" idx="1"/>
          </p:nvPr>
        </p:nvSpPr>
        <p:spPr/>
        <p:txBody>
          <a:bodyPr/>
          <a:p>
            <a:fld id="{704C6744-4390-483B-BF9E-F7DF8482BF05}" type="datetime1">
              <a:rPr lang="en-US"/>
              <a:t>07/31/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8DB60FF-8D50-4A91-817B-DE4F022C1F62}" type="slidenum">
              <a:t>4</a:t>
            </a:fld>
          </a:p>
        </p:txBody>
      </p:sp>
      <p:sp>
        <p:nvSpPr>
          <p:cNvPr id="6" name="PlaceHolder 5"/>
          <p:cNvSpPr>
            <a:spLocks noGrp="1"/>
          </p:cNvSpPr>
          <p:nvPr>
            <p:ph type="dt" idx="1"/>
          </p:nvPr>
        </p:nvSpPr>
        <p:spPr/>
        <p:txBody>
          <a:bodyPr/>
          <a:p>
            <a:fld id="{50DDE3CF-CB58-4FB5-B9C6-4D72DA06D26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8B3BD48-F07E-4239-B08F-02FD84D0D952}" type="slidenum">
              <a:t>5</a:t>
            </a:fld>
          </a:p>
        </p:txBody>
      </p:sp>
      <p:sp>
        <p:nvSpPr>
          <p:cNvPr id="6" name="PlaceHolder 5"/>
          <p:cNvSpPr>
            <a:spLocks noGrp="1"/>
          </p:cNvSpPr>
          <p:nvPr>
            <p:ph type="dt" idx="1"/>
          </p:nvPr>
        </p:nvSpPr>
        <p:spPr/>
        <p:txBody>
          <a:bodyPr/>
          <a:p>
            <a:fld id="{49164C80-73EB-4705-B9CD-F60136C1F09D}" type="datetime1">
              <a:rPr lang="en-US"/>
              <a:t>07/31/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1827B94-FF5A-4497-814B-AFED419C94FE}" type="slidenum">
              <a:t>6</a:t>
            </a:fld>
          </a:p>
        </p:txBody>
      </p:sp>
      <p:sp>
        <p:nvSpPr>
          <p:cNvPr id="6" name="PlaceHolder 5"/>
          <p:cNvSpPr>
            <a:spLocks noGrp="1"/>
          </p:cNvSpPr>
          <p:nvPr>
            <p:ph type="dt" idx="1"/>
          </p:nvPr>
        </p:nvSpPr>
        <p:spPr/>
        <p:txBody>
          <a:bodyPr/>
          <a:p>
            <a:fld id="{C209459E-0E59-43E7-9462-0CCBA0C4423A}" type="datetime1">
              <a:rPr lang="en-US"/>
              <a:t>07/31/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A27D2B2-B296-473E-BFB2-2B4D565B60D2}" type="slidenum">
              <a:t>7</a:t>
            </a:fld>
          </a:p>
        </p:txBody>
      </p:sp>
      <p:sp>
        <p:nvSpPr>
          <p:cNvPr id="5" name="PlaceHolder 4"/>
          <p:cNvSpPr>
            <a:spLocks noGrp="1"/>
          </p:cNvSpPr>
          <p:nvPr>
            <p:ph type="dt" idx="1"/>
          </p:nvPr>
        </p:nvSpPr>
        <p:spPr/>
        <p:txBody>
          <a:bodyPr/>
          <a:p>
            <a:fld id="{7F3482DF-7530-4457-B198-541CC38B54B6}" type="datetime1">
              <a:rPr lang="en-US"/>
              <a:t>07/31/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66357EE-C191-41F1-BE15-F4A0300108A8}" type="slidenum">
              <a:t>8</a:t>
            </a:fld>
          </a:p>
        </p:txBody>
      </p:sp>
      <p:sp>
        <p:nvSpPr>
          <p:cNvPr id="5" name="PlaceHolder 4"/>
          <p:cNvSpPr>
            <a:spLocks noGrp="1"/>
          </p:cNvSpPr>
          <p:nvPr>
            <p:ph type="dt" idx="1"/>
          </p:nvPr>
        </p:nvSpPr>
        <p:spPr/>
        <p:txBody>
          <a:bodyPr/>
          <a:p>
            <a:fld id="{4B87176F-9CA3-4544-8DB2-2BCA2E38EBDA}" type="datetime1">
              <a:rPr lang="en-US"/>
              <a:t>07/31/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C3CAAAE-3C06-48CC-8CEA-6950996ABC09}" type="slidenum">
              <a:t>9</a:t>
            </a:fld>
          </a:p>
        </p:txBody>
      </p:sp>
      <p:sp>
        <p:nvSpPr>
          <p:cNvPr id="6" name="PlaceHolder 5"/>
          <p:cNvSpPr>
            <a:spLocks noGrp="1"/>
          </p:cNvSpPr>
          <p:nvPr>
            <p:ph type="dt" idx="1"/>
          </p:nvPr>
        </p:nvSpPr>
        <p:spPr/>
        <p:txBody>
          <a:bodyPr/>
          <a:p>
            <a:fld id="{F3CFB69E-F776-47D9-B1A7-BE7E5CCE6B00}" type="datetime1">
              <a:rPr lang="en-US"/>
              <a:t>07/31/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